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7A0-C41F-4DDE-8827-777C43AC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80B-FCC1-4802-9D5C-E0AABBA7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493-6E42-4DB1-B49D-0E4019BF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ABF-EA53-4CF5-B278-CC3A0DA6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3A7-488F-4DF0-9FE9-BD2DAE4A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370-A7CB-4DD5-9076-FA5F6850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6D4-3687-4C45-AB16-EFE12F21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E87-DF0F-458D-BCE9-535FEAA7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A1E-8D5D-44C4-9887-D4196128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E3C-A621-48C2-8112-E54B139E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48D-FCFA-42EE-A8C0-1D2B0AC5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ABE-C03E-4D1C-8CBC-881716A3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FE84D-7669-43D3-816B-7B53A7B2B0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7194A-F028-4F6D-BF24-03555C8D1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iodic Table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iodic Table of _______________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n ele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an atom look like? Can you label its pa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rows on the periodic table call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columns on the periodic table call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ncinnati Sky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Cincinnati Skyline.jpg"/>
          <p:cNvPicPr/>
          <p:nvPr/>
        </p:nvPicPr>
        <p:blipFill>
          <a:blip r:embed="rId1"/>
          <a:srcRect l="-16115" t="0" r="-1611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iodic Tabl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Zones on the Periodic Table (pg. 9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other zones we know abou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the periodic table color-cod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Periodic Table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hy do we use the word family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8:13:00Z</dcterms:created>
  <dc:creator>Cleophis Carson</dc:creator>
  <dc:description/>
  <dc:language>en-US</dc:language>
  <cp:lastModifiedBy>Cleophis Carson</cp:lastModifiedBy>
  <dcterms:modified xsi:type="dcterms:W3CDTF">2011-09-29T09:31:04Z</dcterms:modified>
  <cp:revision>1</cp:revision>
  <dc:subject/>
  <dc:title>The Periodic Table</dc:title>
</cp:coreProperties>
</file>